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2AF-485D-438E-A6C0-5CF76E99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598-DB7A-4C2A-AAAF-64FD05AF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1CE1-82BA-40EC-936C-590E6898C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D5F-C904-4DEC-9063-536B8513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9E7E-8D47-4C4A-8803-58035B6E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0E1E-AE3F-4AE9-8BEA-AF5E43A9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3A8-4103-4F77-9E1C-52C65029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E00-C1D5-4B52-A1E5-DE3F9C49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AC24-3A80-4DAF-BD9D-19FA0F23E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9AA-2FAD-447F-BBA2-2CD80F91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5C5-9E58-4319-83EC-13962654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EC86-A1F0-4048-8D2C-FCE25776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010-0689-465F-ACF9-32CE0DA4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BF8F-82D6-4877-9B96-80D1D101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0D6-33E9-47F9-8B52-19DE1136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1FB-0DE4-4D86-A47C-8797A08A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017-78EB-4B9A-A644-EB482CB5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85E-51A0-4B1B-80D8-00D4E60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4BB-B452-4C34-A37A-0C4CB3DB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02A-2393-4742-B9EF-32CFBFB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7D2-8935-4EB2-AC5E-D87E2160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E75-1250-4A8C-A92B-374404F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CF6-C4DC-487F-8052-DD63936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DA3-596E-4A40-A41D-97ABAA9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22A-D374-48F6-A4B2-F779BCC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56F-28D6-484A-AB25-1165BC2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998-4892-4D34-AFA9-7A14F4A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655-331D-42E4-8662-FD0C0B7F7D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kelly@iusd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the Primary Curriculu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Application of Depth &amp;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eg Kelly, Santiago Hills Elemen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kelly@iusd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14-292-3648 (ce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with each story selection and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e understanding of strategy and skill in student’s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use of 3-5 icons to exten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mps to customiz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Graphic Organizers/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phic Organiz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Idea, Details, Unanswered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Fr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ry Detai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mp a graphic organizer you already 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mall Group/Independent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con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con c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llenge students to apply as many icons as they can to story se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day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/weave D&amp;C icons into all areas of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 on board help with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ward students for applying icons on their 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 Classroo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w increased enthusiasm and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inspired by added depth to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rise to higher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pply learning to other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 make connections to vis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aylor Education (jtayloreducation.c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mpower Primary and Inspire Change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Practical Approach to Differentiating the Primary Curricul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y Cynthia Kirk and Katherine S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the academic language thinking tools of Depth &amp; Complexity and Content Impe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xamples of how to incorporate D&amp;C tools into primary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 will be schol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olarly tra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der/refl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thoughtfu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learn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to a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rn for knowing/build curio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fy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repared to learn and take pride in thei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Depth &amp; Complexity tools can help you build scholarly traits and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epth and Complexity Icons Evol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gifted students with opportunities for higher level thinking an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dra Kaplan, U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used in GATE, upper grade, middle and high scho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th and Complexity Thinking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s, icons or prompts that activate higher levels of kn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itical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omething abstract more conc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udents to “jump” into the content and make sense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expertise and inqui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good teaching strategies - much of it you do alre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s assure that you use these strategies consistently and use them all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provide a common vocabulary and build academ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many single aspects of a single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ing deeper into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oming an expert in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connections across several topics or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ing relationships between seemingly unconnected ideas or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&amp; Complexity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00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 Imperativ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ontribution"/>
          <p:cNvPicPr/>
          <p:nvPr/>
        </p:nvPicPr>
        <p:blipFill>
          <a:blip r:embed="rId1"/>
          <a:stretch/>
        </p:blipFill>
        <p:spPr>
          <a:xfrm>
            <a:off x="990720" y="14479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19520" y="1371600"/>
            <a:ext cx="3429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ffect or impact one person or event has on oth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rigin"/>
          <p:cNvPicPr/>
          <p:nvPr/>
        </p:nvPicPr>
        <p:blipFill>
          <a:blip r:embed="rId2"/>
          <a:stretch/>
        </p:blipFill>
        <p:spPr>
          <a:xfrm>
            <a:off x="990720" y="2476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19520" y="243828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eginning, root, foundation, source, or basis for somet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arallel"/>
          <p:cNvPicPr/>
          <p:nvPr/>
        </p:nvPicPr>
        <p:blipFill>
          <a:blip r:embed="rId3"/>
          <a:stretch/>
        </p:blipFill>
        <p:spPr>
          <a:xfrm>
            <a:off x="990720" y="35812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743200" y="35290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something is similar, matching, comparable, or analog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aradox"/>
          <p:cNvPicPr/>
          <p:nvPr/>
        </p:nvPicPr>
        <p:blipFill>
          <a:blip r:embed="rId4"/>
          <a:stretch/>
        </p:blipFill>
        <p:spPr>
          <a:xfrm>
            <a:off x="990720" y="46483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19520" y="45720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gs that are opposite, contradictory, ironic or illogi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onvergence"/>
          <p:cNvPicPr/>
          <p:nvPr/>
        </p:nvPicPr>
        <p:blipFill>
          <a:blip r:embed="rId5"/>
          <a:stretch/>
        </p:blipFill>
        <p:spPr>
          <a:xfrm>
            <a:off x="990720" y="5715000"/>
            <a:ext cx="1062000" cy="797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971800" y="566244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deas or events meet, intersect, concur, merge, join or un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porating Depth &amp; Complexity Into Your Curricul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require creating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ntegrate the icons into curriculum that already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for all students, not just Challeng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can be applied to any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beneficial for English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icons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1:41:52Z</dcterms:created>
  <dc:creator>Meg Kelly</dc:creator>
  <dc:description/>
  <dc:language>en-US</dc:language>
  <cp:lastModifiedBy>Toni Wilson</cp:lastModifiedBy>
  <dcterms:modified xsi:type="dcterms:W3CDTF">2011-04-09T01:37:30Z</dcterms:modified>
  <cp:revision>219</cp:revision>
  <dc:subject/>
  <dc:title>Depth and Complexity</dc:title>
</cp:coreProperties>
</file>